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748-4FC2-4DB5-B577-C7575B3F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69B-DD45-4387-8448-D0B1A6F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852-FCE3-4943-A5FF-BF7CD7FE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E12-BAEF-4909-87B0-0A50E6EF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5F8-5220-4225-BC6B-1CA5A82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7B4-1C44-4D43-98CB-94CEAD87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310-4C79-4933-BF70-4C7A4B3C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EAE-703B-44B2-8D9E-4BDC3F83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A72-78D7-428D-9E26-02CE3CD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D0F-50D3-4FF7-854D-0F7C81F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D60-9B84-410B-9AFC-354ACF1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4BB-BAFE-40CF-B913-F6EED7F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1C7-3303-4BCA-980B-72734972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inderthemnot.com/clip_art_duc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clker.com/clipart-3426.html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1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assoonPrimaryInfant"/>
              </a:rPr>
              <a:t>A Day at the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ssoonPrimaryInfant"/>
              </a:rPr>
              <a:t>By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ducks quack was as loud as a st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mud that the pigs played in was like je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flowers smelled as fresh as perfu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smoke was a black as fo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horse chewed its food as loud as hail st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I am wet and muddy like the pigs after splashing in pudd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grass was as spiky as an haircu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mud felt squidgey like melted chocola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baby ducks look as small as m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horses look tall like a hou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40328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Pig Clip 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197000"/>
            <a:ext cx="2808360" cy="11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5148360" y="4521240"/>
            <a:ext cx="335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0:23:31Z</dcterms:created>
  <dc:creator>Mrs Dixon</dc:creator>
  <dc:description/>
  <dc:language>en-US</dc:language>
  <cp:lastModifiedBy>Mrs Dixon</cp:lastModifiedBy>
  <dcterms:modified xsi:type="dcterms:W3CDTF">2010-03-26T18:42:19Z</dcterms:modified>
  <cp:revision>3</cp:revision>
  <dc:subject/>
  <dc:title>Slide 1</dc:title>
</cp:coreProperties>
</file>